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6B0A-2DE0-4DE8-93DB-04D9EECC6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94B5-0FFC-4506-9944-2349C88FB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8FF-9260-4CF4-A7F7-F877B459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549-2969-45F7-9DF9-B326F4DE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581-0CC5-47A7-AF45-BF6B9D8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3B9-90F9-4146-BD17-FFF52771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7FF-47B3-4A80-BA52-E072B44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A31-B759-4FF5-8B79-E88883FD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4CC-6A63-49E9-90D5-10E86B8E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302-CAA1-4657-859A-07E60E90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F87-8C5B-4FBF-BC8A-ADA6533B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025-68DC-4C24-9755-64977D44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40E-AD54-4773-B3DD-7B4FB27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01C-7E83-4B1A-8027-19FAB6B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657D-115B-43EC-A806-A09CB66A7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arm3.static.flickr.com/2386/2145079381_bf7852607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Russia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151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Declan, Amanda and Raym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ussia’s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1240" y="16765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has many natural resources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ld, nickel, coal, petroleum, copper, fish, bauxite, iron ore, lead, tin, and zin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009, Russia was the world’s leading exporter of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008, Russia was 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ding producer of electricity (1.04 trillion kW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ussian 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has many port cities such as Kaliningrad, St. Petersburg, Murmansk and Vladivost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Port Cities are important because they increase the opportunity of trade with othe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ese Port Cities, Russian’s are allowed the goods they need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Kaliningrad and Vladivostok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liningrad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Baltic port in north-wes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onnection to other Russian territo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manufacturing 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-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ladivostok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-eastern port in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ce-free port in mainland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ocean port on Pacific coast in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industries are fishing and engine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urmansk and St. Petersbu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rmansk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kola peninsu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lling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viet Union fell in 1991. Since then, Russia has been trying to rebuild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crisis in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oil company’s CEO was arrested in 20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banking system and poor economic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22:06:37Z</dcterms:created>
  <dc:creator>Michelle</dc:creator>
  <dc:description/>
  <dc:language>en-US</dc:language>
  <cp:lastModifiedBy>Amanda</cp:lastModifiedBy>
  <dcterms:modified xsi:type="dcterms:W3CDTF">2010-12-14T21:19:47Z</dcterms:modified>
  <cp:revision>13</cp:revision>
  <dc:subject/>
  <dc:title>Russia Economy</dc:title>
</cp:coreProperties>
</file>